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C4F-917C-444C-97F9-17B86B74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FA5-114B-4AB3-952C-EDF680D4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472-2B75-4486-B7CA-1401CB10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2A2-47D0-40A3-AEDC-DB255F39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017-BCF6-4D00-8E5D-5828EB8E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0CF-1B09-4713-8099-8309860A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E85-00D3-4D2D-8462-E04049D0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031-6CE9-4786-B9D7-CFE72407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C8C-5A89-43BB-8B58-E9D68AC2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A58-125C-4827-8E74-B75D597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C42-1BC1-47DB-99FC-65458BAB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190-7F19-470D-A9C6-7995ED1B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9D0A-F168-4B66-9587-7C4F8435722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Falcon development cos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/05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development cos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alcon is a class 2 devic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RD Cost is 17 % below Class 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Overall Cost is 15 % below Class 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Conclusion: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Adjustment ST tbd. according request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Significant reduction of development cost must include reduction of feature changes compared to Kestrel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HW Changes compared to Kestre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New HW Featur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3,2Mpix 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display with lager main and sub pan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2nd speaker and stereo sou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FM 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Involving Chang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antenna design, incl. BT antenn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position of IO connector and vib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ange of FPC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ange of PCB, incl. new layout and routing of BB and RF (Design and layout changes + DTC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F conducted and RF radiated behavior (incl. BT) will chan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Conclusion: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a0e66"/>
                </a:solidFill>
                <a:latin typeface="Minion"/>
              </a:rPr>
              <a:t>Falcon is at least a class II devic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SW Changes compared to Kestre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New SW Featur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Stereo Concept (ASP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M Radio also on outer display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ture Chang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river adaptations for 3,2 Mpix camera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river adaptations for new display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MMI changes for came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General: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Ongoing bug fixing in all areas (esp. after operator request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per 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8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compared to Class 2 [€]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990720"/>
          <a:ext cx="8305560" cy="532080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383840"/>
                <a:gridCol w="1384200"/>
                <a:gridCol w="1384200"/>
                <a:gridCol w="138456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l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131.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517.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87.5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265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.601.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las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470.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438.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069.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562.7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.54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38.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9.4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81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97.2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938.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1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compared to Class 2 [€]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990720"/>
          <a:ext cx="8305920" cy="532116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278000"/>
                <a:gridCol w="1368360"/>
                <a:gridCol w="1368360"/>
                <a:gridCol w="152244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C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erv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l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.601.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86.9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664.9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.151.9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.753.8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las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.54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43.5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890.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.433.7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.973.8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938.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56.6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25.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81.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.219.9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ST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8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SWM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2T06:27:24Z</dcterms:modified>
  <cp:revision>139</cp:revision>
  <dc:subject/>
  <dc:title>PowerPoint 簡報</dc:title>
</cp:coreProperties>
</file>